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E920-DAB8-4859-9F68-FE2246A7DF5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A7C3-264F-4BCE-A333-25286A9227E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1B49-3BC1-4936-A745-1E956FA541F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2F57-1F21-4166-8C7B-42ABE0B6D32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D47A-DD0E-4F9B-930F-61A5C29F91B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49D2C-203E-49F3-8090-2211CB0E3E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22FA1-BB43-4BFE-BDCC-E76B7BDE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F78F4-5AD9-4E7E-8571-33A28592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D14D8-F961-47CF-93B7-EC6186B930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3400B-F150-45D3-9751-D3111709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37C27-43EF-4AD4-9B79-22E3FC67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79F82-C4B7-48FC-B59E-46C01137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A7B14-7F70-4EF2-979C-7993A49F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9DB4F-E4DA-4856-A1A4-77E56439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25B16-5B70-4860-890A-857E348E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AB8E9-AFB9-41B1-8CAF-83F3F504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D16A5-420D-4AEE-A240-C3DB5CAA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E744-A5D7-422D-B06D-9677FDA3493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四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影响药物作用的因素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55640" y="148392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不同给药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途径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对药效产生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物耐受性、精神依赖和成瘾性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物不同剂型对药物吸收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机体方面对药效产生影响的因素有哪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护理老年患者用药的注意事项有哪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200" spc="-1" strike="noStrike">
                <a:solidFill>
                  <a:srgbClr val="ffffff"/>
                </a:solidFill>
                <a:latin typeface="华文新魏"/>
              </a:rPr>
              <a:t>药物方面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55640" y="1341360"/>
            <a:ext cx="7943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剂型：不同剂型影响药物吸收量和速率，从而影响药物作用快慢和强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药途径：不同给药途径能影响药效和起效快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相互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耐受性和依赖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机体方面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生理状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、营养状态、精神状态、遗传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病理状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饮食对药物作用的影响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时间药理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物节律对药物作用和体内过程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心理因素与用药关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老年人临床用药须知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人用药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老年人用药的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口服给药时，下列那种剂型吸收最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片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溶液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丸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散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胶囊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圆角矩形 1"/>
          <p:cNvSpPr/>
          <p:nvPr/>
        </p:nvSpPr>
        <p:spPr>
          <a:xfrm>
            <a:off x="1332000" y="1341360"/>
            <a:ext cx="6985080" cy="518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连续使用镇痛药一段时间后停药，患者出现烦躁不安，流泪出汗，腹痛呕吐，此现象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戒断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耐药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反跳现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后遗效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.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变态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肝功能不良患者在使用药物时，应适当采取下列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增加给药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增加药物剂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延长给药间隔时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缩短给药间隔时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减少给药种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56:54Z</dcterms:modified>
  <cp:revision>99</cp:revision>
  <dc:subject/>
  <dc:title>内科护理学</dc:title>
</cp:coreProperties>
</file>